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EDE7-5FEC-4606-A7A9-B4C0526B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1BE-15D8-4FFA-B882-153A7AB8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E05-A2A3-4E5A-A51F-74AE29E2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1B0-6C2D-4730-B602-DD8FCF1D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A39-40A0-4C9B-935E-EE8B7C5F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7F6D-0978-419E-8170-BB42A891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32DA-0851-4EBF-A155-868292CD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4B8-71D9-4440-8318-4E52133E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4D9-087C-4F3F-BE6F-4A632915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913-9757-4E19-AC6B-3CE5613D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C4F-DAE3-423D-856A-2B94D567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C9D-D96B-401B-B8FC-4C8D5E9B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5862-5D76-4B29-9B9D-B688E27AE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_x000b_sphere1.jpg   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2308320" y="487440"/>
            <a:ext cx="452736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_x000b_sphere8.jpg   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2286000" y="228600"/>
            <a:ext cx="4857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_x000e_Picture 10.png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2286000" y="228600"/>
            <a:ext cx="4861080" cy="63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7851240" y="4795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bb2"/>
                </a:solidFill>
                <a:latin typeface="Arial"/>
              </a:rPr>
              <a:t>Expl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_x000e_Picture 11.png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2286000" y="152280"/>
            <a:ext cx="4951440" cy="6477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7622640" y="4572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bb2"/>
                </a:solidFill>
                <a:latin typeface="Arial"/>
              </a:rPr>
              <a:t>Elabo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_x000e_Picture 12.png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533520" y="509760"/>
            <a:ext cx="8229600" cy="6348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7545960" y="45720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bb2"/>
                </a:solidFill>
                <a:latin typeface="Arial"/>
              </a:rPr>
              <a:t>Evalu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0e_spheres 1a.jpg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1447920" y="380880"/>
            <a:ext cx="655308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_x000e_spheres 1b.jpg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1143000" y="685800"/>
            <a:ext cx="762012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_x000b_sphere2.jpg   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2286000" y="228600"/>
            <a:ext cx="4867200" cy="6324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7850520" y="4795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bb2"/>
                </a:solidFill>
                <a:latin typeface="Arial"/>
              </a:rPr>
              <a:t>Eng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_x000b_sphere3.jpg   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2286000" y="228600"/>
            <a:ext cx="4905360" cy="6400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7850520" y="4795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bb2"/>
                </a:solidFill>
                <a:latin typeface="Arial"/>
              </a:rPr>
              <a:t>Expl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_x000b_sphere4.jpg   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2286000" y="228600"/>
            <a:ext cx="48560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_x000b_sphere5.jpg   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2286000" y="152280"/>
            <a:ext cx="4970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_x000b_sphere6.jpg   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2286000" y="228600"/>
            <a:ext cx="490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_x000b_sphere7.jpg                                                    0007F016_x000c_Macintosh HD                   C1E69C32:"/>
          <p:cNvPicPr/>
          <p:nvPr/>
        </p:nvPicPr>
        <p:blipFill>
          <a:blip r:embed="rId1"/>
          <a:stretch/>
        </p:blipFill>
        <p:spPr>
          <a:xfrm>
            <a:off x="2286000" y="228600"/>
            <a:ext cx="4854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20:53:29Z</dcterms:created>
  <dc:creator>Tim McCollum</dc:creator>
  <dc:description/>
  <dc:language>en-US</dc:language>
  <cp:lastModifiedBy>kandy.powers Powers</cp:lastModifiedBy>
  <dcterms:modified xsi:type="dcterms:W3CDTF">2012-02-04T14:13:32Z</dcterms:modified>
  <cp:revision>3</cp:revision>
  <dc:subject/>
  <dc:title>PowerPoint Presentation</dc:title>
</cp:coreProperties>
</file>